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7696080"/>
            <a:ext cx="11175840" cy="13082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8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marL="74088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2726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80432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33604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1219320"/>
            <a:ext cx="11175840" cy="7315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75996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2798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000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1984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2400" y="2819160"/>
            <a:ext cx="4317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5292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9090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2888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16686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7c81ff"/>
                </a:solidFill>
                <a:latin typeface="Monaco"/>
              </a:rPr>
              <a:t>Stage Two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5016240"/>
            <a:ext cx="11175840" cy="2260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96ff"/>
                </a:solidFill>
                <a:latin typeface="Monaco"/>
              </a:rPr>
              <a:t>DeeDe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</a:t>
            </a:r>
            <a:r>
              <a:rPr b="0" lang="en-US" sz="3600" spc="-1" strike="noStrike">
                <a:solidFill>
                  <a:srgbClr val="a02fff"/>
                </a:solidFill>
                <a:latin typeface="Monaco"/>
              </a:rPr>
              <a:t>Paik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2fff"/>
                </a:solidFill>
                <a:latin typeface="Monaco"/>
              </a:rPr>
              <a:t>Kathy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</a:t>
            </a:r>
            <a:r>
              <a:rPr b="0" lang="en-US" sz="3600" spc="-1" strike="noStrike">
                <a:solidFill>
                  <a:srgbClr val="e696ff"/>
                </a:solidFill>
                <a:latin typeface="Monaco"/>
              </a:rPr>
              <a:t>Lee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96ff"/>
                </a:solidFill>
                <a:latin typeface="Monaco"/>
              </a:rPr>
              <a:t>Ashle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</a:t>
            </a:r>
            <a:r>
              <a:rPr b="0" lang="en-US" sz="3600" spc="-1" strike="noStrike">
                <a:solidFill>
                  <a:srgbClr val="a02fff"/>
                </a:solidFill>
                <a:latin typeface="Monaco"/>
              </a:rPr>
              <a:t>Reem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1536480"/>
            <a:ext cx="11175840" cy="34923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ec61"/>
                </a:solidFill>
                <a:latin typeface="Monaco"/>
              </a:rPr>
              <a:t>Amplitude,Frequency,Body temperature, and purpose of the </a:t>
            </a:r>
            <a:r>
              <a:rPr b="0" lang="en-US" sz="4900" spc="-1" strike="noStrike">
                <a:solidFill>
                  <a:srgbClr val="ffec61"/>
                </a:solidFill>
                <a:latin typeface="Monaco"/>
              </a:rPr>
              <a:t>stage</a:t>
            </a:r>
            <a:endParaRPr b="0" lang="en-US" sz="49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400032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697ff"/>
                </a:solidFill>
                <a:uFillTx/>
                <a:latin typeface="Monaco"/>
              </a:rPr>
              <a:t>Frequency (Hz):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 4-15 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697ff"/>
                </a:solidFill>
                <a:uFillTx/>
                <a:latin typeface="Monaco"/>
              </a:rPr>
              <a:t>Amplitude (micro Volts):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50-150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Waveform type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8697ff"/>
                </a:solidFill>
                <a:uFillTx/>
                <a:latin typeface="Monaco"/>
              </a:rPr>
              <a:t>Body temperature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 drops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697ff"/>
                </a:solidFill>
                <a:uFillTx/>
                <a:latin typeface="Monaco"/>
              </a:rPr>
              <a:t>purpose: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 being ready to enter deep sleep 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12880" y="73656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9ff0b"/>
                </a:solidFill>
                <a:latin typeface="Monaco"/>
              </a:rPr>
              <a:t>Body condition/Brain Waves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12880" y="3048120"/>
            <a:ext cx="11175840" cy="73785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86680" indent="-5133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8697ff"/>
                </a:solidFill>
                <a:uFillTx/>
                <a:latin typeface="Monaco"/>
              </a:rPr>
              <a:t>Body Condition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  <a:p>
            <a:pPr lvl="1" marL="1459080" indent="-513000">
              <a:lnSpc>
                <a:spcPct val="100000"/>
              </a:lnSpc>
              <a:spcBef>
                <a:spcPts val="2999"/>
              </a:spcBef>
              <a:buSzPct val="1430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Monaco"/>
              </a:rPr>
              <a:t>eye movement stops</a:t>
            </a:r>
            <a:endParaRPr b="0" lang="en-US" sz="2500" spc="-1" strike="noStrike">
              <a:solidFill>
                <a:srgbClr val="ffffff"/>
              </a:solidFill>
              <a:latin typeface="Monaco"/>
            </a:endParaRPr>
          </a:p>
          <a:p>
            <a:pPr lvl="1" marL="1459080" indent="-513000">
              <a:lnSpc>
                <a:spcPct val="100000"/>
              </a:lnSpc>
              <a:spcBef>
                <a:spcPts val="2999"/>
              </a:spcBef>
              <a:buSzPct val="1430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Monaco"/>
              </a:rPr>
              <a:t>heart rate slows down</a:t>
            </a:r>
            <a:endParaRPr b="0" lang="en-US" sz="2500" spc="-1" strike="noStrike">
              <a:solidFill>
                <a:srgbClr val="ffffff"/>
              </a:solidFill>
              <a:latin typeface="Monaco"/>
            </a:endParaRPr>
          </a:p>
          <a:p>
            <a:pPr lvl="1" marL="1459080" indent="-513000">
              <a:lnSpc>
                <a:spcPct val="100000"/>
              </a:lnSpc>
              <a:spcBef>
                <a:spcPts val="2999"/>
              </a:spcBef>
              <a:buSzPct val="1430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Monaco"/>
              </a:rPr>
              <a:t>muscles relax</a:t>
            </a:r>
            <a:endParaRPr b="0" lang="en-US" sz="2500" spc="-1" strike="noStrike">
              <a:solidFill>
                <a:srgbClr val="ffffff"/>
              </a:solidFill>
              <a:latin typeface="Monaco"/>
            </a:endParaRPr>
          </a:p>
          <a:p>
            <a:pPr marL="886680" indent="-513360">
              <a:lnSpc>
                <a:spcPct val="100000"/>
              </a:lnSpc>
              <a:spcBef>
                <a:spcPts val="2999"/>
              </a:spcBef>
              <a:buSzPct val="1429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697ff"/>
                </a:solidFill>
                <a:uFillTx/>
                <a:latin typeface="Monaco"/>
              </a:rPr>
              <a:t>Brain waves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marL="1459080" indent="-513000">
              <a:lnSpc>
                <a:spcPct val="100000"/>
              </a:lnSpc>
              <a:spcBef>
                <a:spcPts val="2999"/>
              </a:spcBef>
              <a:buSzPct val="14301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become slower with only an occasional burst of rapid brain waves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  <a:p>
            <a:pPr lvl="1" marL="1459080" indent="-5130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Monaco"/>
              </a:rPr>
              <a:t>three types- Theta, K-complex and spindles</a:t>
            </a:r>
            <a:endParaRPr b="0" lang="en-US" sz="2700" spc="-1" strike="noStrike">
              <a:solidFill>
                <a:srgbClr val="ffffff"/>
              </a:solidFill>
              <a:latin typeface="Monaco"/>
            </a:endParaRPr>
          </a:p>
          <a:p>
            <a:pPr lvl="1" marL="1459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886680" indent="-5133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Waveform type: splindle wave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6780240" y="949320"/>
            <a:ext cx="5295960" cy="71532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7529760" y="8357760"/>
            <a:ext cx="3809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efff8"/>
                </a:solidFill>
                <a:latin typeface="Monaco"/>
                <a:ea typeface="Monaco"/>
              </a:rPr>
              <a:t>Waves in </a:t>
            </a:r>
            <a:endParaRPr b="0" lang="en-US" sz="4200" spc="-1" strike="noStrike">
              <a:solidFill>
                <a:srgbClr val="ffffff"/>
              </a:solidFill>
              <a:latin typeface="Monac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efff8"/>
                </a:solidFill>
                <a:latin typeface="Monaco"/>
                <a:ea typeface="Monaco"/>
              </a:rPr>
              <a:t>Stages of Sleep</a:t>
            </a:r>
            <a:endParaRPr b="0" lang="en-US" sz="42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104760" y="927000"/>
            <a:ext cx="6108840" cy="6991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31000" y="8677440"/>
            <a:ext cx="386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ef5ff"/>
                </a:solidFill>
                <a:latin typeface="Monaco"/>
                <a:ea typeface="Monaco"/>
              </a:rPr>
              <a:t>The Sleep Cycle</a:t>
            </a:r>
            <a:endParaRPr b="0" lang="en-US" sz="4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